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a:t>
            </a:r>
            <a:r>
              <a:rPr b="0" lang="sr-RS" sz="2800" spc="-1" strike="noStrike">
                <a:solidFill>
                  <a:srgbClr val="000000"/>
                </a:solidFill>
                <a:latin typeface="Arial"/>
              </a:rPr>
              <a:t>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e</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e is a hard connective tissue, the major component of almost all skeletal systems in adult vertebrates. Bone appears to be nonliving – in fact, the word skeleton is derived from a Greek word meaning dried up. However, bone actually is a dynamic structure composed of both living tissues, such as bone cells, fat cells, and blood vessels, and nonliving materials, including water and mineral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es are multipurpose structures that play diverse, vital roles in vertebrates. They provide framework for the body, supporting it and giving it shape. They also provide a surface for the attachment of muscles and act as levers, permitting many complex movement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eb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ss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u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b</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r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el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rru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teobla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teocy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te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ilag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b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akes the soft core of b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bones does an adult human ha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bone consist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osteobla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tructural unit of compact b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cancellous b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role of perioste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enables different ranges of mo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n cause osteoporo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adjectives from the following words and make sentence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let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c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a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lv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il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tr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mon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row</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list main parts of:</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leton__________________________________________</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nk_____________________________________________</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ms______________________________________________</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s ______________________________________________</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ts______________________________________________</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correct preposition from the list below:</a:t>
            </a:r>
            <a:br>
              <a:rPr sz="2400"/>
            </a:br>
            <a:r>
              <a:rPr b="0" lang="en-US" sz="2400" spc="-1" strike="noStrike">
                <a:solidFill>
                  <a:srgbClr val="000000"/>
                </a:solidFill>
                <a:latin typeface="Arial"/>
              </a:rPr>
              <a:t>with, from, on, to, in, into, by, for</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lained..............the doctor that our problem is unusu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articular study is associated.....................some hereditary mechanis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infections are caused..................fung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n suffers......................osteopor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es provide framework...................the body, supporting it and giving it sha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bone tissue matures, osteoblasts transform.................osteocy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tient must go.....................a well-balanced di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some evidence to suggest that certain diseases may run................famil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the words in column A with the corresponding words in column B:</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tablish                                           drug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vent                                             disea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minister                                        blood pressu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aluate                                           diagnos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adicate                                          medica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cribe                                          infe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asure                                           condi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rain                                               ank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Остеопороза, као што је већ познато, јесте болест проузрокована недостатком калцијума и има за последицу разређеност костног ткива. То је једно од најчешћих стања везаних за старење, и напада многовише жене него мушкарце. Отприлике 25 процената жена изнад 65 година показује знаке остеопорозе, док је код старијих мушкараца ово обољење мање изражено за 10 процената. Мршаве, ситне жене највише су иложене ризику добијања тог обољења. Остеопороза доноси разне потешкоће: бол у доњем делу кичме, губитак висине (до неколико центиметара), погнуто држање и повећан ризик од фрактура, посебно ку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17T17:17:47Z</dcterms:modified>
  <cp:revision>12</cp:revision>
  <dc:subject/>
  <dc:title>Slide 1</dc:title>
</cp:coreProperties>
</file>